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71200" y="856800"/>
            <a:ext cx="498780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Example -dynamic task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imple interface for D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conventional Linux devic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fficient inter-processor communication (ARM &lt;-&gt; D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inimum copy count for maximum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emor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BUF: Inter-processor buffer mechanism (“Global”, “Private”, “System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ulti-task environment for DSP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ault-tolerant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BUF: Inter-communication buffer mech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for ARM and D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A103B9B-0E07-4F59-97E3-6FFC7E7EF34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ELF_Nokia_Japan_v01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6-01-20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NRC-Tok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567F357-60A8-4D7F-963B-B7588603A1E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  <a:p>
            <a:pPr lvl="1" marL="457200" indent="0"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914400" indent="38160" algn="ctr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3" marL="1371600" indent="155520" algn="ctr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4" marL="1828800" indent="176040" algn="ctr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5" marL="1828800" indent="176040">
              <a:spcBef>
                <a:spcPts val="451"/>
              </a:spcBef>
              <a:buClr>
                <a:srgbClr val="000000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6" marL="1828800" indent="176040">
              <a:spcBef>
                <a:spcPts val="451"/>
              </a:spcBef>
              <a:buClr>
                <a:srgbClr val="000000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spgateway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DSPGateway Architecture in Detail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6920" y="140976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Yoshiya Hirase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Nokia Research Center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Nokia Japan Co. Ltd.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Task Management: Dynamic Loader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54160" y="1409760"/>
            <a:ext cx="7523280" cy="451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Task Management: DSP Application Life Cycl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26" name=""/>
          <p:cNvSpPr/>
          <p:nvPr/>
        </p:nvSpPr>
        <p:spPr>
          <a:xfrm>
            <a:off x="5141880" y="1424160"/>
            <a:ext cx="3029040" cy="4555800"/>
          </a:xfrm>
          <a:custGeom>
            <a:avLst/>
            <a:gdLst>
              <a:gd name="textAreaLeft" fmla="*/ 26640 w 3029040"/>
              <a:gd name="textAreaRight" fmla="*/ 3002400 w 3029040"/>
              <a:gd name="textAreaTop" fmla="*/ 26640 h 4555800"/>
              <a:gd name="textAreaBottom" fmla="*/ 4529160 h 4555800"/>
            </a:gdLst>
            <a:ahLst/>
            <a:rect l="textAreaLeft" t="textAreaTop" r="textAreaRight" b="textAreaBottom"/>
            <a:pathLst>
              <a:path w="21600" h="32486">
                <a:moveTo>
                  <a:pt x="657" y="0"/>
                </a:moveTo>
                <a:arcTo wR="657" hR="657" stAng="16200000" swAng="-5400000"/>
                <a:lnTo>
                  <a:pt x="0" y="31829"/>
                </a:lnTo>
                <a:arcTo wR="657" hR="657" stAng="10800000" swAng="-5400000"/>
                <a:lnTo>
                  <a:pt x="20943" y="32486"/>
                </a:lnTo>
                <a:arcTo wR="657" hR="657" stAng="5400000" swAng="-5400000"/>
                <a:lnTo>
                  <a:pt x="21600" y="657"/>
                </a:lnTo>
                <a:arcTo wR="657" hR="657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89200" y="1424160"/>
            <a:ext cx="3019320" cy="4563720"/>
          </a:xfrm>
          <a:custGeom>
            <a:avLst/>
            <a:gdLst>
              <a:gd name="textAreaLeft" fmla="*/ 24120 w 3019320"/>
              <a:gd name="textAreaRight" fmla="*/ 2995200 w 3019320"/>
              <a:gd name="textAreaTop" fmla="*/ 24120 h 4563720"/>
              <a:gd name="textAreaBottom" fmla="*/ 4539600 h 4563720"/>
            </a:gdLst>
            <a:ahLst/>
            <a:rect l="textAreaLeft" t="textAreaTop" r="textAreaRight" b="textAreaBottom"/>
            <a:pathLst>
              <a:path w="21600" h="32647">
                <a:moveTo>
                  <a:pt x="595" y="0"/>
                </a:moveTo>
                <a:arcTo wR="595" hR="595" stAng="16200000" swAng="-5400000"/>
                <a:lnTo>
                  <a:pt x="0" y="32052"/>
                </a:lnTo>
                <a:arcTo wR="595" hR="595" stAng="10800000" swAng="-5400000"/>
                <a:lnTo>
                  <a:pt x="21005" y="32647"/>
                </a:lnTo>
                <a:arcTo wR="595" hR="595" stAng="5400000" swAng="-5400000"/>
                <a:lnTo>
                  <a:pt x="21600" y="595"/>
                </a:lnTo>
                <a:arcTo wR="595" hR="595" stAng="0" swAng="-5400000"/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73360" y="1125360"/>
            <a:ext cx="2759040" cy="4999320"/>
          </a:xfrm>
          <a:custGeom>
            <a:avLst/>
            <a:gdLst>
              <a:gd name="textAreaLeft" fmla="*/ 24480 w 2759040"/>
              <a:gd name="textAreaRight" fmla="*/ 2734560 w 2759040"/>
              <a:gd name="textAreaTop" fmla="*/ 24480 h 4999320"/>
              <a:gd name="textAreaBottom" fmla="*/ 4974840 h 4999320"/>
            </a:gdLst>
            <a:ahLst/>
            <a:rect l="textAreaLeft" t="textAreaTop" r="textAreaRight" b="textAreaBottom"/>
            <a:pathLst>
              <a:path w="21600" h="39136">
                <a:moveTo>
                  <a:pt x="657" y="0"/>
                </a:moveTo>
                <a:arcTo wR="657" hR="657" stAng="16200000" swAng="-5400000"/>
                <a:lnTo>
                  <a:pt x="0" y="38479"/>
                </a:lnTo>
                <a:arcTo wR="657" hR="657" stAng="10800000" swAng="-5400000"/>
                <a:lnTo>
                  <a:pt x="20943" y="39136"/>
                </a:lnTo>
                <a:arcTo wR="657" hR="657" stAng="5400000" swAng="-5400000"/>
                <a:lnTo>
                  <a:pt x="21600" y="657"/>
                </a:lnTo>
                <a:arcTo wR="657" hR="657" stAng="0" swAng="-5400000"/>
                <a:close/>
              </a:path>
            </a:pathLst>
          </a:cu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38800" y="1112760"/>
            <a:ext cx="1179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8880" y="1795320"/>
            <a:ext cx="862560" cy="271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proces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96920" y="2063880"/>
            <a:ext cx="0" cy="38480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6400" y="2334960"/>
            <a:ext cx="5608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ope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6760" y="3268440"/>
            <a:ext cx="5580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wri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0080" y="4262400"/>
            <a:ext cx="5302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rea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5320" y="4776840"/>
            <a:ext cx="5594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clos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30240" y="1805040"/>
            <a:ext cx="140364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Linux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30440" y="2093760"/>
            <a:ext cx="0" cy="382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73480" y="2087640"/>
            <a:ext cx="0" cy="38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13320" y="1805040"/>
            <a:ext cx="111564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evic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7360" y="1805040"/>
            <a:ext cx="95724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24440" y="21034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538360" y="3127320"/>
            <a:ext cx="162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6760" y="2922480"/>
            <a:ext cx="97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open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33680" y="2465280"/>
            <a:ext cx="162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27920" y="2259000"/>
            <a:ext cx="56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ope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6960" y="1805040"/>
            <a:ext cx="130320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4600" y="2100240"/>
            <a:ext cx="0" cy="381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79960" y="273204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5160" y="2514600"/>
            <a:ext cx="119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ctivate DSP t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179600" y="3005280"/>
            <a:ext cx="16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62680" y="2803680"/>
            <a:ext cx="73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3680" y="3505320"/>
            <a:ext cx="1635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5480" y="330048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Nokia Sans SemiBold"/>
                <a:ea typeface="ＭＳ Ｐゴシック"/>
              </a:rPr>
              <a:t>wri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83200" y="3665520"/>
            <a:ext cx="1628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31720" y="3440160"/>
            <a:ext cx="1963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Nokia Sans SemiBold"/>
                <a:ea typeface="ＭＳ Ｐゴシック"/>
              </a:rPr>
              <a:t>input data / control 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817960" y="4253040"/>
            <a:ext cx="16412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76720" y="4253040"/>
            <a:ext cx="1641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6920" y="4378320"/>
            <a:ext cx="1628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2680" y="4037040"/>
            <a:ext cx="88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Nokia Sans SemiBold"/>
                <a:ea typeface="ＭＳ Ｐゴシック"/>
              </a:rPr>
              <a:t>outpu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5760" y="4173480"/>
            <a:ext cx="53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Nokia Sans SemiBold"/>
                <a:ea typeface="ＭＳ Ｐゴシック"/>
              </a:rPr>
              <a:t>rea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1600" y="4898880"/>
            <a:ext cx="163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27920" y="4697280"/>
            <a:ext cx="55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los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81400" y="5164200"/>
            <a:ext cx="16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47840" y="4952880"/>
            <a:ext cx="1345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eactivate DSP t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837400" y="5154120"/>
            <a:ext cx="1627200" cy="9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176720" y="5437080"/>
            <a:ext cx="16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2680" y="5221440"/>
            <a:ext cx="73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525400" y="5702400"/>
            <a:ext cx="164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6920" y="5478480"/>
            <a:ext cx="133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lose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23000" y="3665520"/>
            <a:ext cx="1635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87400" y="1393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83120" y="1378080"/>
            <a:ext cx="47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837400" y="2716200"/>
            <a:ext cx="1627200" cy="9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04000" y="2143080"/>
            <a:ext cx="1160640" cy="495360"/>
          </a:xfrm>
          <a:prstGeom prst="wedgeRectCallout">
            <a:avLst>
              <a:gd name="adj1" fmla="val -68879"/>
              <a:gd name="adj2" fmla="val 67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task dynamically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11920" y="4591080"/>
            <a:ext cx="1162080" cy="466560"/>
          </a:xfrm>
          <a:prstGeom prst="wedgeRectCallout">
            <a:avLst>
              <a:gd name="adj1" fmla="val -71310"/>
              <a:gd name="adj2" fmla="val 70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task dynamically de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529000" y="3784680"/>
            <a:ext cx="1636560" cy="0"/>
          </a:xfrm>
          <a:prstGeom prst="line">
            <a:avLst/>
          </a:prstGeom>
          <a:ln w="9360">
            <a:solidFill>
              <a:srgbClr val="003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25400" y="3579840"/>
            <a:ext cx="96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6cc"/>
                </a:solidFill>
                <a:latin typeface="Nokia Sans SemiBold"/>
                <a:ea typeface="ＭＳ Ｐゴシック"/>
              </a:rPr>
              <a:t>write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525760" y="4641840"/>
            <a:ext cx="163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1360" y="4437000"/>
            <a:ext cx="94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Nokia Sans SemiBold"/>
                <a:ea typeface="ＭＳ Ｐゴシック"/>
              </a:rPr>
              <a:t>read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4600" y="3676680"/>
            <a:ext cx="0" cy="571320"/>
          </a:xfrm>
          <a:prstGeom prst="line">
            <a:avLst/>
          </a:prstGeom>
          <a:ln w="28440">
            <a:solidFill>
              <a:srgbClr val="800080"/>
            </a:solidFill>
            <a:miter/>
            <a:headEnd len="sm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5960" y="3686040"/>
            <a:ext cx="136440" cy="514440"/>
          </a:xfrm>
          <a:custGeom>
            <a:avLst/>
            <a:gdLst>
              <a:gd name="textAreaLeft" fmla="*/ 0 w 136440"/>
              <a:gd name="textAreaRight" fmla="*/ 49320 w 1364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45280" y="3438360"/>
            <a:ext cx="1162080" cy="295560"/>
          </a:xfrm>
          <a:prstGeom prst="wedgeRectCallout">
            <a:avLst>
              <a:gd name="adj1" fmla="val -72129"/>
              <a:gd name="adj2" fmla="val 121504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task ru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76240" y="922320"/>
            <a:ext cx="7632720" cy="5486400"/>
          </a:xfrm>
          <a:prstGeom prst="roundRect">
            <a:avLst>
              <a:gd name="adj" fmla="val 90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74640" y="4737240"/>
            <a:ext cx="6299280" cy="266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4640" y="3416400"/>
            <a:ext cx="6299280" cy="266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3600" y="1071720"/>
            <a:ext cx="6953040" cy="53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fd_mp3file, fd_ds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ATA buf[BUF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Decode_MP3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Open MP3 decoder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d_dsp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“/dev/dsptask/mp3dec”, O_RDW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Initialize MP3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oct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fd, MP3_DECODE_INI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Decode MP3 audio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hile (ReadMp3File(fd_mp3file, buf, BUFSZ) != EOF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Send encoded data to MP3 decoder in 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fd_dsp, buf, BUFS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Close MP3 decoder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o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fd_ds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P3 Pseudo program (ARM side)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88" name=""/>
          <p:cNvSpPr/>
          <p:nvPr/>
        </p:nvSpPr>
        <p:spPr>
          <a:xfrm>
            <a:off x="7413480" y="2462040"/>
            <a:ext cx="2082960" cy="816120"/>
          </a:xfrm>
          <a:prstGeom prst="borderCallout1">
            <a:avLst>
              <a:gd name="adj1" fmla="val 18750"/>
              <a:gd name="adj2" fmla="val -8333"/>
              <a:gd name="adj3" fmla="val 137745"/>
              <a:gd name="adj4" fmla="val -56861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ssue TCTL command to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5280" y="5295960"/>
            <a:ext cx="2082600" cy="815760"/>
          </a:xfrm>
          <a:prstGeom prst="borderCallout1">
            <a:avLst>
              <a:gd name="adj1" fmla="val 18750"/>
              <a:gd name="adj2" fmla="val -8333"/>
              <a:gd name="adj3" fmla="val -41634"/>
              <a:gd name="adj4" fmla="val -56708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ssue BKSND command to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76240" y="922320"/>
            <a:ext cx="7632720" cy="5486400"/>
          </a:xfrm>
          <a:prstGeom prst="roundRect">
            <a:avLst>
              <a:gd name="adj" fmla="val 90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74640" y="1828800"/>
            <a:ext cx="6299280" cy="800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74640" y="4203720"/>
            <a:ext cx="6299280" cy="1879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P3 Pseudo program (DSP side)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4" name=""/>
          <p:cNvSpPr/>
          <p:nvPr/>
        </p:nvSpPr>
        <p:spPr>
          <a:xfrm>
            <a:off x="1279440" y="1071720"/>
            <a:ext cx="7207200" cy="53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s rcv_tctl(struct dsptask *task, Uns ctlcmd, Uns *ret, Uns ar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itch (ctlcm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ase MP3_DECODE_INI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itIMD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itFilter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s rcv_bksnd(struct dsptask *task, Uns bid, Uns c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* Decode received MP3 data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quant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duceAlia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MD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* Send decoded PCM data to the Audio Device Driv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99240" y="1571760"/>
            <a:ext cx="2082960" cy="907920"/>
          </a:xfrm>
          <a:prstGeom prst="borderCallout1">
            <a:avLst>
              <a:gd name="adj1" fmla="val 18750"/>
              <a:gd name="adj2" fmla="val -8333"/>
              <a:gd name="adj3" fmla="val 30069"/>
              <a:gd name="adj4" fmla="val -39481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andle </a:t>
            </a: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P3_DECODE_INIT</a:t>
            </a: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of TCTL 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3160" y="4270320"/>
            <a:ext cx="1866960" cy="901800"/>
          </a:xfrm>
          <a:prstGeom prst="borderCallout1">
            <a:avLst>
              <a:gd name="adj1" fmla="val 18750"/>
              <a:gd name="adj2" fmla="val -8333"/>
              <a:gd name="adj3" fmla="val 23240"/>
              <a:gd name="adj4" fmla="val -3809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andle BKSN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Nokia 770 Internet Tablet Feature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igh-resolution (800x480) touch screen with up to 65,536 color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Engine: DDR RAM 64MB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: Flash 128MB (&gt;64MB for user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 card: 64MB RS-MMC (Reduced Size - MultiMediaCard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Supported file forma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Audio: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MP3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Real Audio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AAC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WAV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AMR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mage: JPEG, GIF, BMP, TIFF, PNG, Animated GIF format, SVG-tiny, ICO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Video: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MPEG1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MPEG4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Real Video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H.263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3GP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 items are decoded on DSP,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 items are routed through DSP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WLAN: 802.11b/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Bluetooth specification: 1.2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USB device mode for PC connectivit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RS-MM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3.5 mm stereo audio out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952880" y="4270320"/>
            <a:ext cx="3589560" cy="221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ultimedia Software Architecture in Nokia 770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01" name=""/>
          <p:cNvSpPr/>
          <p:nvPr/>
        </p:nvSpPr>
        <p:spPr>
          <a:xfrm>
            <a:off x="1179360" y="5202360"/>
            <a:ext cx="441648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5203800"/>
            <a:ext cx="277956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54280" y="5324400"/>
            <a:ext cx="145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0560" y="5334120"/>
            <a:ext cx="145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5320" y="1289160"/>
            <a:ext cx="4417920" cy="3803400"/>
          </a:xfrm>
          <a:prstGeom prst="roundRect">
            <a:avLst>
              <a:gd name="adj" fmla="val 6759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6160" y="1282680"/>
            <a:ext cx="2774880" cy="3803760"/>
          </a:xfrm>
          <a:custGeom>
            <a:avLst/>
            <a:gdLst>
              <a:gd name="textAreaLeft" fmla="*/ 54720 w 2774880"/>
              <a:gd name="textAreaRight" fmla="*/ 2720160 w 2774880"/>
              <a:gd name="textAreaTop" fmla="*/ 54720 h 3803760"/>
              <a:gd name="textAreaBottom" fmla="*/ 3749040 h 3803760"/>
            </a:gdLst>
            <a:ahLst/>
            <a:rect l="textAreaLeft" t="textAreaTop" r="textAreaRight" b="textAreaBottom"/>
            <a:pathLst>
              <a:path w="21600" h="29608">
                <a:moveTo>
                  <a:pt x="1460" y="0"/>
                </a:moveTo>
                <a:arcTo wR="1460" hR="1460" stAng="16200000" swAng="-5400000"/>
                <a:lnTo>
                  <a:pt x="0" y="28148"/>
                </a:lnTo>
                <a:arcTo wR="1460" hR="1460" stAng="10800000" swAng="-5400000"/>
                <a:lnTo>
                  <a:pt x="20140" y="29608"/>
                </a:lnTo>
                <a:arcTo wR="1460" hR="1460" stAng="5400000" swAng="-5400000"/>
                <a:lnTo>
                  <a:pt x="21600" y="1460"/>
                </a:lnTo>
                <a:arcTo wR="1460" hR="1460" stAng="0" swAng="-5400000"/>
                <a:close/>
              </a:path>
            </a:pathLst>
          </a:custGeom>
          <a:solidFill>
            <a:srgbClr val="c0c0c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3600" y="1346040"/>
            <a:ext cx="145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02520" y="1292400"/>
            <a:ext cx="145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/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55640" y="2936880"/>
            <a:ext cx="3419640" cy="1405080"/>
          </a:xfrm>
          <a:prstGeom prst="roundRect">
            <a:avLst>
              <a:gd name="adj" fmla="val 124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5880" y="2968560"/>
            <a:ext cx="1452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GStrea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67040" y="3398760"/>
            <a:ext cx="814320" cy="83052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41400" y="3390840"/>
            <a:ext cx="1060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lugin #1 (Co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41600" y="4433760"/>
            <a:ext cx="6600600" cy="530280"/>
          </a:xfrm>
          <a:prstGeom prst="roundRect">
            <a:avLst>
              <a:gd name="adj" fmla="val 227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9440" y="3390840"/>
            <a:ext cx="814320" cy="8398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63800" y="338292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lugin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5600" y="3392640"/>
            <a:ext cx="814320" cy="8380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9960" y="338472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lugin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2880" y="3392640"/>
            <a:ext cx="814320" cy="8395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97600" y="338472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dec 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9040" y="3394080"/>
            <a:ext cx="814320" cy="8380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43760" y="338616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dec 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7840" y="4513320"/>
            <a:ext cx="215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5080" y="4079880"/>
            <a:ext cx="354240" cy="492120"/>
          </a:xfrm>
          <a:prstGeom prst="upDownArrow">
            <a:avLst>
              <a:gd name="adj1" fmla="val 50194"/>
              <a:gd name="adj2" fmla="val 414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081320"/>
            <a:ext cx="354240" cy="492120"/>
          </a:xfrm>
          <a:prstGeom prst="upDownArrow">
            <a:avLst>
              <a:gd name="adj1" fmla="val 50194"/>
              <a:gd name="adj2" fmla="val 414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42120" y="4083120"/>
            <a:ext cx="353880" cy="492120"/>
          </a:xfrm>
          <a:prstGeom prst="upDownArrow">
            <a:avLst>
              <a:gd name="adj1" fmla="val 50194"/>
              <a:gd name="adj2" fmla="val 414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4083120"/>
            <a:ext cx="354240" cy="492120"/>
          </a:xfrm>
          <a:prstGeom prst="upDownArrow">
            <a:avLst>
              <a:gd name="adj1" fmla="val 50194"/>
              <a:gd name="adj2" fmla="val 414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60680" y="1873080"/>
            <a:ext cx="3411360" cy="96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40000" y="2011320"/>
            <a:ext cx="2019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ultimedia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Future Work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OMAP2420 support (including IVA support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river Abstraction, and expansion for generic AMC (Asymmetric Multi-Core) processor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495680" y="2905200"/>
            <a:ext cx="4019760" cy="27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1352520"/>
            <a:ext cx="3505320" cy="266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ff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Demo: Play Media Files using DSP Gateway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48160" y="3282840"/>
            <a:ext cx="2998800" cy="1851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957320" y="1787400"/>
            <a:ext cx="18954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3260160" y="2517480"/>
            <a:ext cx="1266120" cy="1076760"/>
            <a:chOff x="3260160" y="2517480"/>
            <a:chExt cx="1266120" cy="1076760"/>
          </a:xfrm>
        </p:grpSpPr>
        <p:sp>
          <p:nvSpPr>
            <p:cNvPr id="337" name=""/>
            <p:cNvSpPr/>
            <p:nvPr/>
          </p:nvSpPr>
          <p:spPr>
            <a:xfrm rot="4141200">
              <a:off x="3611160" y="2697120"/>
              <a:ext cx="62712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3" y="323"/>
                  </a:moveTo>
                  <a:arcTo wR="10800" hR="10800" stAng="-4556777" swAng="3399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3" y="323"/>
                  </a:moveTo>
                  <a:arcTo wR="10800" hR="10800" stAng="-4556777" swAng="33992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141200">
              <a:off x="3706920" y="2729880"/>
              <a:ext cx="62892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3" y="157"/>
                  </a:moveTo>
                  <a:arcTo wR="10800" hR="10800" stAng="-4813656" swAng="4236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3" y="157"/>
                  </a:moveTo>
                  <a:arcTo wR="10800" hR="10800" stAng="-4813656" swAng="423625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141200">
              <a:off x="3538800" y="2619360"/>
              <a:ext cx="62820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23" y="737"/>
                  </a:moveTo>
                  <a:arcTo wR="10800" hR="10800" stAng="-4122207" swAng="2667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23" y="737"/>
                  </a:moveTo>
                  <a:arcTo wR="10800" hR="10800" stAng="-4122207" swAng="2667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141200">
              <a:off x="3449880" y="2541240"/>
              <a:ext cx="628200" cy="83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66" y="1668"/>
                  </a:moveTo>
                  <a:arcTo wR="10800" hR="10800" stAng="-3463877" swAng="1683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66" y="1668"/>
                  </a:moveTo>
                  <a:arcTo wR="10800" hR="10800" stAng="-3463877" swAng="16839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725000" y="3273480"/>
            <a:ext cx="1221840" cy="1047240"/>
            <a:chOff x="4725000" y="3273480"/>
            <a:chExt cx="1221840" cy="1047240"/>
          </a:xfrm>
        </p:grpSpPr>
        <p:sp>
          <p:nvSpPr>
            <p:cNvPr id="342" name=""/>
            <p:cNvSpPr/>
            <p:nvPr/>
          </p:nvSpPr>
          <p:spPr>
            <a:xfrm rot="15231600">
              <a:off x="4996800" y="3313080"/>
              <a:ext cx="6264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3" y="323"/>
                  </a:moveTo>
                  <a:arcTo wR="10800" hR="10800" stAng="-4556777" swAng="3399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3" y="323"/>
                  </a:moveTo>
                  <a:arcTo wR="10800" hR="10800" stAng="-4556777" swAng="33992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5231600">
              <a:off x="4901400" y="3272040"/>
              <a:ext cx="62892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3" y="157"/>
                  </a:moveTo>
                  <a:arcTo wR="10800" hR="10800" stAng="-4813656" swAng="4236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3" y="157"/>
                  </a:moveTo>
                  <a:arcTo wR="10800" hR="10800" stAng="-4813656" swAng="423625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5231600">
              <a:off x="5060520" y="3397680"/>
              <a:ext cx="62820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23" y="737"/>
                  </a:moveTo>
                  <a:arcTo wR="10800" hR="10800" stAng="-4122207" swAng="2667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23" y="737"/>
                  </a:moveTo>
                  <a:arcTo wR="10800" hR="10800" stAng="-4122207" swAng="2667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5231600">
              <a:off x="5142600" y="3483000"/>
              <a:ext cx="627480" cy="83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66" y="1668"/>
                  </a:moveTo>
                  <a:arcTo wR="10800" hR="10800" stAng="-3463877" swAng="1683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66" y="1668"/>
                  </a:moveTo>
                  <a:arcTo wR="10800" hR="10800" stAng="-3463877" swAng="16839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514680" y="1066680"/>
            <a:ext cx="2552760" cy="847800"/>
          </a:xfrm>
          <a:prstGeom prst="wedgeRoundRectCallout">
            <a:avLst>
              <a:gd name="adj1" fmla="val -53546"/>
              <a:gd name="adj2" fmla="val 96814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ystem log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evi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81720" y="2428920"/>
            <a:ext cx="2552760" cy="447480"/>
          </a:xfrm>
          <a:prstGeom prst="wedgeRoundRectCallout">
            <a:avLst>
              <a:gd name="adj1" fmla="val -33393"/>
              <a:gd name="adj2" fmla="val 268439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lay sound or mo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References: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roject pag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44a51c"/>
                </a:solidFill>
                <a:uFillTx/>
                <a:latin typeface="Nokia Sans Wide"/>
                <a:ea typeface="ＭＳ Ｐゴシック"/>
                <a:hlinkClick r:id="rId1"/>
              </a:rPr>
              <a:t>http://sourceforge.net/projects/dspgateway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Articl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森　英悟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小林　俊裕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高橋　清隆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. “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オープン・ソース・ソフトウェア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Gateway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を用いた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で使う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OMAP DSP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部のソフトウェア開発環境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.” Interface: CQ Publishing, May 2004, 156-164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ttp://www.cqpub.co.jp/interface/contents/2004/200405.htm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Thank you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63196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genda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 Gateway Featur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emonstration Using Nokia 770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File manager Imag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581120" y="1262160"/>
            <a:ext cx="6724800" cy="50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Audio Player Imag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19200" y="1187280"/>
            <a:ext cx="6848640" cy="513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BKSND command in log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289320" y="1171440"/>
            <a:ext cx="38257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TDEL command in log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414440" y="1847880"/>
            <a:ext cx="705816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Task Status Transition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76240" y="1498680"/>
            <a:ext cx="8439120" cy="422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Log message while playing MP3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71480" y="1968480"/>
            <a:ext cx="8344080" cy="289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Performance Evaluation Exampl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 mapping improves data transfer wel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99"/>
              </a:spcBef>
              <a:spcAft>
                <a:spcPts val="99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ata send latency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Nokia Sans Wide"/>
                <a:ea typeface="ＭＳ Ｐゴシック"/>
              </a:rPr>
              <a:t>to DSP) by 44%-68%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99"/>
              </a:spcBef>
              <a:spcAft>
                <a:spcPts val="99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ata receive latency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Nokia Sans Wide"/>
                <a:ea typeface="ＭＳ Ｐゴシック"/>
              </a:rPr>
              <a:t>from DSP) by 27-55%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6" name=""/>
          <p:cNvSpPr/>
          <p:nvPr/>
        </p:nvSpPr>
        <p:spPr>
          <a:xfrm>
            <a:off x="252360" y="5478480"/>
            <a:ext cx="3832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PU bksnd := MPU sends a data blocks to D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20" y="5735520"/>
            <a:ext cx="1017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PUbkreq_DSPbksnd := MPU sends a block request to DSP -&gt; DSP receives it &amp; then sends the block back -&gt; MPU receives the data block from DSP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44560" y="2200320"/>
            <a:ext cx="7875720" cy="3200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24640" y="5992920"/>
            <a:ext cx="5361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emory write/read := MPU writes/reads data on the mapped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DSP Gateway Feature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Open Source Softwa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Integrated in Nokia 770 Internet Table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imple interface for DSP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fficient inter-processor communication (ARM &lt;-&gt; DSP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Block data transfer via shared memor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Task manage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ynamic Loa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ault-tolerant mechanism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43520" y="98748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522936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History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3/6: Released the DSP Gateway version 1.0 for OMAP1510 at SourceForg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4/8: Supported OMAP1610/5912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4/9: Merged into the Linux OMAP tre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5/2H: Nokia 770 released with DSP Gatewa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The latest DSP Gateway ver 3.3 supports OMAP 15XX (including 5910) and 16XX (including 1710 and 5912)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9" name=""/>
          <p:cNvSpPr/>
          <p:nvPr/>
        </p:nvSpPr>
        <p:spPr>
          <a:xfrm>
            <a:off x="2543040" y="2543040"/>
            <a:ext cx="136800" cy="412920"/>
          </a:xfrm>
          <a:custGeom>
            <a:avLst/>
            <a:gdLst/>
            <a:ahLst/>
            <a:rect l="l" t="t" r="r" b="b"/>
            <a:pathLst>
              <a:path w="542" h="1640">
                <a:moveTo>
                  <a:pt x="414" y="0"/>
                </a:moveTo>
                <a:cubicBezTo>
                  <a:pt x="349" y="22"/>
                  <a:pt x="277" y="7"/>
                  <a:pt x="210" y="24"/>
                </a:cubicBezTo>
                <a:cubicBezTo>
                  <a:pt x="186" y="48"/>
                  <a:pt x="159" y="54"/>
                  <a:pt x="132" y="72"/>
                </a:cubicBezTo>
                <a:cubicBezTo>
                  <a:pt x="96" y="126"/>
                  <a:pt x="58" y="178"/>
                  <a:pt x="24" y="234"/>
                </a:cubicBezTo>
                <a:cubicBezTo>
                  <a:pt x="12" y="282"/>
                  <a:pt x="16" y="331"/>
                  <a:pt x="0" y="378"/>
                </a:cubicBezTo>
                <a:cubicBezTo>
                  <a:pt x="2" y="442"/>
                  <a:pt x="1" y="506"/>
                  <a:pt x="6" y="570"/>
                </a:cubicBezTo>
                <a:cubicBezTo>
                  <a:pt x="8" y="595"/>
                  <a:pt x="50" y="646"/>
                  <a:pt x="60" y="660"/>
                </a:cubicBezTo>
                <a:cubicBezTo>
                  <a:pt x="125" y="747"/>
                  <a:pt x="213" y="841"/>
                  <a:pt x="318" y="876"/>
                </a:cubicBezTo>
                <a:cubicBezTo>
                  <a:pt x="355" y="913"/>
                  <a:pt x="390" y="948"/>
                  <a:pt x="426" y="984"/>
                </a:cubicBezTo>
                <a:cubicBezTo>
                  <a:pt x="438" y="1019"/>
                  <a:pt x="467" y="1049"/>
                  <a:pt x="492" y="1074"/>
                </a:cubicBezTo>
                <a:cubicBezTo>
                  <a:pt x="497" y="1089"/>
                  <a:pt x="515" y="1100"/>
                  <a:pt x="516" y="1116"/>
                </a:cubicBezTo>
                <a:cubicBezTo>
                  <a:pt x="522" y="1254"/>
                  <a:pt x="542" y="1384"/>
                  <a:pt x="444" y="1482"/>
                </a:cubicBezTo>
                <a:cubicBezTo>
                  <a:pt x="419" y="1544"/>
                  <a:pt x="364" y="1580"/>
                  <a:pt x="300" y="1596"/>
                </a:cubicBezTo>
                <a:cubicBezTo>
                  <a:pt x="227" y="1640"/>
                  <a:pt x="282" y="1614"/>
                  <a:pt x="120" y="161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DSP Interface: Device File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3320" y="1128600"/>
            <a:ext cx="469260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task device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interface to DSP tas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control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iscellaneous DSP control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(e.g. DSP configuration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memory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memory acces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task watch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or dynamic loader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error detection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rror info deliver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9120" y="1695600"/>
          <a:ext cx="643248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9120" y="1695600"/>
                    <a:ext cx="643248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41600" y="2611440"/>
            <a:ext cx="400320" cy="704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9560" y="2614680"/>
            <a:ext cx="400320" cy="704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64000" y="2620800"/>
            <a:ext cx="399960" cy="704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610000"/>
            <a:ext cx="412920" cy="717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1800" y="2610000"/>
            <a:ext cx="399960" cy="723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7880" y="2610000"/>
            <a:ext cx="406440" cy="717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610000"/>
            <a:ext cx="393840" cy="717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Inter-Processor Communication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2073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Communications via OMAP mailbox mechanism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27241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65320" y="1943280"/>
            <a:ext cx="6227640" cy="25524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2920" y="2367000"/>
            <a:ext cx="1622520" cy="1628640"/>
          </a:xfrm>
          <a:custGeom>
            <a:avLst/>
            <a:gdLst>
              <a:gd name="textAreaLeft" fmla="*/ 12600 w 1622520"/>
              <a:gd name="textAreaRight" fmla="*/ 1609920 w 1622520"/>
              <a:gd name="textAreaTop" fmla="*/ 12600 h 1628640"/>
              <a:gd name="textAreaBottom" fmla="*/ 1616040 h 1628640"/>
            </a:gdLst>
            <a:ahLst/>
            <a:rect l="textAreaLeft" t="textAreaTop" r="textAreaRight" b="textAreaBottom"/>
            <a:pathLst>
              <a:path w="21600" h="21681">
                <a:moveTo>
                  <a:pt x="576" y="0"/>
                </a:moveTo>
                <a:arcTo wR="576" hR="576" stAng="16200000" swAng="-5400000"/>
                <a:lnTo>
                  <a:pt x="0" y="21105"/>
                </a:lnTo>
                <a:arcTo wR="576" hR="576" stAng="10800000" swAng="-5400000"/>
                <a:lnTo>
                  <a:pt x="21024" y="21681"/>
                </a:lnTo>
                <a:arcTo wR="576" hR="576" stAng="5400000" swAng="-5400000"/>
                <a:lnTo>
                  <a:pt x="21600" y="576"/>
                </a:lnTo>
                <a:arcTo wR="576" hR="57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6120" y="2457360"/>
            <a:ext cx="1674720" cy="1133640"/>
          </a:xfrm>
          <a:prstGeom prst="roundRect">
            <a:avLst>
              <a:gd name="adj" fmla="val 6667"/>
            </a:avLst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44800" y="2933640"/>
            <a:ext cx="2133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44440" y="3381480"/>
            <a:ext cx="2143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122720" y="2752560"/>
            <a:ext cx="1536480" cy="318960"/>
            <a:chOff x="4122720" y="2752560"/>
            <a:chExt cx="1536480" cy="318960"/>
          </a:xfrm>
        </p:grpSpPr>
        <p:sp>
          <p:nvSpPr>
            <p:cNvPr id="120" name=""/>
            <p:cNvSpPr/>
            <p:nvPr/>
          </p:nvSpPr>
          <p:spPr>
            <a:xfrm>
              <a:off x="4122720" y="2752560"/>
              <a:ext cx="1536480" cy="318960"/>
            </a:xfrm>
            <a:prstGeom prst="roundRect">
              <a:avLst>
                <a:gd name="adj" fmla="val 1648"/>
              </a:avLst>
            </a:prstGeom>
            <a:solidFill>
              <a:srgbClr val="ffffcc"/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89400" y="2776320"/>
              <a:ext cx="1217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(16bit + 16bi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906720" y="2465280"/>
            <a:ext cx="200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SemiBold"/>
                <a:ea typeface="ＭＳ Ｐゴシック"/>
              </a:rPr>
              <a:t>Mailbox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239868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7480" y="2011320"/>
            <a:ext cx="70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O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22720" y="3162240"/>
            <a:ext cx="1536480" cy="318960"/>
            <a:chOff x="4122720" y="3162240"/>
            <a:chExt cx="1536480" cy="318960"/>
          </a:xfrm>
        </p:grpSpPr>
        <p:sp>
          <p:nvSpPr>
            <p:cNvPr id="126" name=""/>
            <p:cNvSpPr/>
            <p:nvPr/>
          </p:nvSpPr>
          <p:spPr>
            <a:xfrm>
              <a:off x="4122720" y="3162240"/>
              <a:ext cx="1536480" cy="318960"/>
            </a:xfrm>
            <a:prstGeom prst="roundRect">
              <a:avLst>
                <a:gd name="adj" fmla="val 1648"/>
              </a:avLst>
            </a:prstGeom>
            <a:solidFill>
              <a:srgbClr val="ffffcc"/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89400" y="3186000"/>
              <a:ext cx="1217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(16bit + 16bi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2520720" y="4352760"/>
            <a:ext cx="43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1200" y="3990960"/>
            <a:ext cx="0" cy="352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6200" y="4000680"/>
            <a:ext cx="0" cy="352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2560" y="4809960"/>
            <a:ext cx="3047760" cy="1019520"/>
          </a:xfrm>
          <a:prstGeom prst="roundRect">
            <a:avLst>
              <a:gd name="adj" fmla="val 3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93080" y="4836960"/>
            <a:ext cx="88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1800" y="5238720"/>
            <a:ext cx="1393560" cy="452160"/>
            <a:chOff x="4141800" y="5238720"/>
            <a:chExt cx="1393560" cy="452160"/>
          </a:xfrm>
        </p:grpSpPr>
        <p:sp>
          <p:nvSpPr>
            <p:cNvPr id="134" name=""/>
            <p:cNvSpPr/>
            <p:nvPr/>
          </p:nvSpPr>
          <p:spPr>
            <a:xfrm>
              <a:off x="4141800" y="5238720"/>
              <a:ext cx="1393560" cy="45216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6000" y="5338440"/>
              <a:ext cx="950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IPBU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4826160" y="4333680"/>
            <a:ext cx="0" cy="4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02040" y="3233880"/>
            <a:ext cx="8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4360" y="2357280"/>
            <a:ext cx="2136960" cy="165744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9400" y="238932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1280" y="2776680"/>
            <a:ext cx="82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64160" y="3200400"/>
            <a:ext cx="1409760" cy="752400"/>
          </a:xfrm>
          <a:prstGeom prst="roundRect">
            <a:avLst>
              <a:gd name="adj" fmla="val 3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3000" y="3539880"/>
            <a:ext cx="885960" cy="273600"/>
          </a:xfrm>
          <a:prstGeom prst="roundRect">
            <a:avLst>
              <a:gd name="adj" fmla="val 1648"/>
            </a:avLst>
          </a:prstGeom>
          <a:solidFill>
            <a:srgbClr val="ff9900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80880" indent="-38088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P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90000" y="3198960"/>
            <a:ext cx="158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ntern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63880" y="3781440"/>
            <a:ext cx="2600280" cy="9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532480" y="2209680"/>
            <a:ext cx="2293920" cy="762120"/>
          </a:xfrm>
          <a:prstGeom prst="roundRect">
            <a:avLst>
              <a:gd name="adj" fmla="val 66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Inter-Processor Communication: IPBUF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3320" y="1128600"/>
            <a:ext cx="469260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Global IPBU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Used to transfer block data to/from DSP task 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repared by the system and managed with alloc &amp; free function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ixed block size, restricted block count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Private IPBU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Used to transfer block data to/from DSP tas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A task can define an exclusive buffer, with arbitrary size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System IPBU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Used to transfer extra data between systems of ARM and DSP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8" name=""/>
          <p:cNvSpPr/>
          <p:nvPr/>
        </p:nvSpPr>
        <p:spPr>
          <a:xfrm>
            <a:off x="4943520" y="1000080"/>
            <a:ext cx="4267080" cy="20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43520" y="3038400"/>
            <a:ext cx="4267080" cy="187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43520" y="4943520"/>
            <a:ext cx="4267080" cy="13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61400" y="2792520"/>
            <a:ext cx="171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Global IP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40160" y="4687920"/>
            <a:ext cx="1749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Private IP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15680" y="6049800"/>
            <a:ext cx="176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 IP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703840" y="2247840"/>
            <a:ext cx="488880" cy="452520"/>
            <a:chOff x="5703840" y="2247840"/>
            <a:chExt cx="488880" cy="452520"/>
          </a:xfrm>
        </p:grpSpPr>
        <p:sp>
          <p:nvSpPr>
            <p:cNvPr id="155" name=""/>
            <p:cNvSpPr/>
            <p:nvPr/>
          </p:nvSpPr>
          <p:spPr>
            <a:xfrm>
              <a:off x="570384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7836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89840" y="2247840"/>
            <a:ext cx="488880" cy="452520"/>
            <a:chOff x="6189840" y="2247840"/>
            <a:chExt cx="488880" cy="452520"/>
          </a:xfrm>
        </p:grpSpPr>
        <p:sp>
          <p:nvSpPr>
            <p:cNvPr id="158" name=""/>
            <p:cNvSpPr/>
            <p:nvPr/>
          </p:nvSpPr>
          <p:spPr>
            <a:xfrm>
              <a:off x="618984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6436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75480" y="2247840"/>
            <a:ext cx="488880" cy="452520"/>
            <a:chOff x="6675480" y="2247840"/>
            <a:chExt cx="488880" cy="452520"/>
          </a:xfrm>
        </p:grpSpPr>
        <p:sp>
          <p:nvSpPr>
            <p:cNvPr id="161" name=""/>
            <p:cNvSpPr/>
            <p:nvPr/>
          </p:nvSpPr>
          <p:spPr>
            <a:xfrm>
              <a:off x="667548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5000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161120" y="2247840"/>
            <a:ext cx="488880" cy="452520"/>
            <a:chOff x="7161120" y="2247840"/>
            <a:chExt cx="488880" cy="452520"/>
          </a:xfrm>
        </p:grpSpPr>
        <p:sp>
          <p:nvSpPr>
            <p:cNvPr id="164" name=""/>
            <p:cNvSpPr/>
            <p:nvPr/>
          </p:nvSpPr>
          <p:spPr>
            <a:xfrm>
              <a:off x="716112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564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65800" y="1176480"/>
            <a:ext cx="1108080" cy="89532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5800" y="1179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52960" y="1905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2200" y="2023920"/>
            <a:ext cx="728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(allo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4720" y="1195560"/>
            <a:ext cx="1108080" cy="89532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25560" y="119844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1733400"/>
            <a:ext cx="164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94360" y="1495440"/>
            <a:ext cx="488880" cy="452520"/>
            <a:chOff x="6894360" y="1495440"/>
            <a:chExt cx="488880" cy="452520"/>
          </a:xfrm>
        </p:grpSpPr>
        <p:sp>
          <p:nvSpPr>
            <p:cNvPr id="174" name=""/>
            <p:cNvSpPr/>
            <p:nvPr/>
          </p:nvSpPr>
          <p:spPr>
            <a:xfrm>
              <a:off x="6894360" y="14954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8880" y="15764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961400" y="1581120"/>
            <a:ext cx="822240" cy="318960"/>
            <a:chOff x="7961400" y="1581120"/>
            <a:chExt cx="822240" cy="318960"/>
          </a:xfrm>
        </p:grpSpPr>
        <p:sp>
          <p:nvSpPr>
            <p:cNvPr id="177" name=""/>
            <p:cNvSpPr/>
            <p:nvPr/>
          </p:nvSpPr>
          <p:spPr>
            <a:xfrm>
              <a:off x="7961400" y="1581120"/>
              <a:ext cx="822240" cy="31896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0840" y="160488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37200" y="3319560"/>
            <a:ext cx="1108080" cy="1266840"/>
          </a:xfrm>
          <a:custGeom>
            <a:avLst/>
            <a:gdLst>
              <a:gd name="textAreaLeft" fmla="*/ 8640 w 1108080"/>
              <a:gd name="textAreaRight" fmla="*/ 1099440 w 1108080"/>
              <a:gd name="textAreaTop" fmla="*/ 8640 h 1266840"/>
              <a:gd name="textAreaBottom" fmla="*/ 1258200 h 1266840"/>
            </a:gdLst>
            <a:ahLst/>
            <a:rect l="textAreaLeft" t="textAreaTop" r="textAreaRight" b="textAreaBottom"/>
            <a:pathLst>
              <a:path w="21600" h="24694">
                <a:moveTo>
                  <a:pt x="576" y="0"/>
                </a:moveTo>
                <a:arcTo wR="576" hR="576" stAng="16200000" swAng="-5400000"/>
                <a:lnTo>
                  <a:pt x="0" y="24118"/>
                </a:lnTo>
                <a:arcTo wR="576" hR="576" stAng="10800000" swAng="-5400000"/>
                <a:lnTo>
                  <a:pt x="21024" y="24694"/>
                </a:lnTo>
                <a:arcTo wR="576" hR="576" stAng="5400000" swAng="-5400000"/>
                <a:lnTo>
                  <a:pt x="21600" y="576"/>
                </a:lnTo>
                <a:arcTo wR="576" hR="57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07200" y="332280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08840" y="3338640"/>
            <a:ext cx="1108080" cy="1247760"/>
          </a:xfrm>
          <a:custGeom>
            <a:avLst/>
            <a:gdLst>
              <a:gd name="textAreaLeft" fmla="*/ 8640 w 1108080"/>
              <a:gd name="textAreaRight" fmla="*/ 1099440 w 1108080"/>
              <a:gd name="textAreaTop" fmla="*/ 8640 h 1247760"/>
              <a:gd name="textAreaBottom" fmla="*/ 1239120 h 1247760"/>
            </a:gdLst>
            <a:ahLst/>
            <a:rect l="textAreaLeft" t="textAreaTop" r="textAreaRight" b="textAreaBottom"/>
            <a:pathLst>
              <a:path w="21600" h="24322">
                <a:moveTo>
                  <a:pt x="576" y="0"/>
                </a:moveTo>
                <a:arcTo wR="576" hR="576" stAng="16200000" swAng="-5400000"/>
                <a:lnTo>
                  <a:pt x="0" y="23746"/>
                </a:lnTo>
                <a:arcTo wR="576" hR="576" stAng="10800000" swAng="-5400000"/>
                <a:lnTo>
                  <a:pt x="21024" y="24322"/>
                </a:lnTo>
                <a:arcTo wR="576" hR="576" stAng="5400000" swAng="-5400000"/>
                <a:lnTo>
                  <a:pt x="21600" y="576"/>
                </a:lnTo>
                <a:arcTo wR="576" hR="57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39680" y="334152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0" y="4048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561000" y="3571920"/>
            <a:ext cx="1012320" cy="956520"/>
            <a:chOff x="6561000" y="3571920"/>
            <a:chExt cx="1012320" cy="956520"/>
          </a:xfrm>
        </p:grpSpPr>
        <p:sp>
          <p:nvSpPr>
            <p:cNvPr id="185" name=""/>
            <p:cNvSpPr/>
            <p:nvPr/>
          </p:nvSpPr>
          <p:spPr>
            <a:xfrm>
              <a:off x="6561000" y="3571920"/>
              <a:ext cx="1012320" cy="956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5080" y="3742920"/>
              <a:ext cx="7002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B Private IPBU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75440" y="3886200"/>
            <a:ext cx="822240" cy="477720"/>
            <a:chOff x="5275440" y="3886200"/>
            <a:chExt cx="822240" cy="477720"/>
          </a:xfrm>
        </p:grpSpPr>
        <p:sp>
          <p:nvSpPr>
            <p:cNvPr id="188" name=""/>
            <p:cNvSpPr/>
            <p:nvPr/>
          </p:nvSpPr>
          <p:spPr>
            <a:xfrm>
              <a:off x="5275440" y="3886200"/>
              <a:ext cx="822240" cy="31896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4880" y="3909960"/>
              <a:ext cx="612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075520" y="3895560"/>
            <a:ext cx="822240" cy="478080"/>
            <a:chOff x="8075520" y="3895560"/>
            <a:chExt cx="822240" cy="478080"/>
          </a:xfrm>
        </p:grpSpPr>
        <p:sp>
          <p:nvSpPr>
            <p:cNvPr id="191" name=""/>
            <p:cNvSpPr/>
            <p:nvPr/>
          </p:nvSpPr>
          <p:spPr>
            <a:xfrm>
              <a:off x="8075520" y="3895560"/>
              <a:ext cx="822240" cy="31932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85320" y="3919680"/>
              <a:ext cx="612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>
            <a:off x="7829280" y="1895400"/>
            <a:ext cx="533160" cy="3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16840" y="2071800"/>
            <a:ext cx="728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(fre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78640" y="2712960"/>
            <a:ext cx="200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SemiBold"/>
                <a:ea typeface="ＭＳ Ｐゴシック"/>
              </a:rPr>
              <a:t>Global IP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504040" y="1571760"/>
            <a:ext cx="822240" cy="318960"/>
            <a:chOff x="5504040" y="1571760"/>
            <a:chExt cx="822240" cy="318960"/>
          </a:xfrm>
        </p:grpSpPr>
        <p:sp>
          <p:nvSpPr>
            <p:cNvPr id="197" name=""/>
            <p:cNvSpPr/>
            <p:nvPr/>
          </p:nvSpPr>
          <p:spPr>
            <a:xfrm>
              <a:off x="5504040" y="1571760"/>
              <a:ext cx="822240" cy="31896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3480" y="159552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127480" y="5091120"/>
            <a:ext cx="1108080" cy="92376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7480" y="5094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99480" y="5110200"/>
            <a:ext cx="1108080" cy="90468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30320" y="511344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74344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65720" y="5581800"/>
            <a:ext cx="822240" cy="347400"/>
          </a:xfrm>
          <a:prstGeom prst="roundRect">
            <a:avLst>
              <a:gd name="adj" fmla="val 1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89480" y="5595840"/>
            <a:ext cx="76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6160" y="5581800"/>
            <a:ext cx="822240" cy="366480"/>
          </a:xfrm>
          <a:prstGeom prst="roundRect">
            <a:avLst>
              <a:gd name="adj" fmla="val 1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99280" y="5614920"/>
            <a:ext cx="76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6400" y="5495760"/>
            <a:ext cx="774720" cy="500400"/>
          </a:xfrm>
          <a:prstGeom prst="roundRect">
            <a:avLst>
              <a:gd name="adj" fmla="val 1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6400" y="5499000"/>
            <a:ext cx="819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 IP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Inter-Processor Communication: 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93800" y="1568520"/>
            <a:ext cx="6476760" cy="4507920"/>
            <a:chOff x="1693800" y="1568520"/>
            <a:chExt cx="6476760" cy="45079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1693800" y="2609280"/>
              <a:ext cx="6476760" cy="34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701000" y="1568520"/>
              <a:ext cx="6444720" cy="11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65080" y="2675160"/>
              <a:ext cx="637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2800" y="2103480"/>
            <a:ext cx="6667560" cy="28260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2965320"/>
            <a:ext cx="6667560" cy="28260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61720" y="1166760"/>
            <a:ext cx="317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ailbox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emory Mapping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4120" y="1100160"/>
            <a:ext cx="450216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internal memor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857160" indent="-3427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ARAM, SARAM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xternal memor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857160" indent="-3427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DRAM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0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3920" bIns="-43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19480" y="695160"/>
          <a:ext cx="5800680" cy="54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9480" y="695160"/>
                    <a:ext cx="5800680" cy="54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31:08Z</dcterms:created>
  <dc:creator>Nagaike Rin</dc:creator>
  <dc:description/>
  <cp:keywords/>
  <dc:language>en-US</dc:language>
  <cp:lastModifiedBy>Hirase Yoshiya</cp:lastModifiedBy>
  <cp:lastPrinted>1998-09-04T08:04:32Z</cp:lastPrinted>
  <dcterms:modified xsi:type="dcterms:W3CDTF">2006-01-23T02:59:14Z</dcterms:modified>
  <cp:revision>198</cp:revision>
  <dc:subject>Nokia PowerPoint template 2005</dc:subject>
  <dc:title>Slide 1</dc:title>
</cp:coreProperties>
</file>